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D0E-E901-42D5-9245-FFC02FB7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D698-1601-45AF-95F2-C4FDED1D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85EE-E757-4261-B274-50A3EEE1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C73-9A17-4D00-B13F-F5ACA581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7E6E-8A7B-4D83-874F-988EC43B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0FB-9137-4472-AF69-825FE810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0FE-7B3E-4D6F-A4CF-AA980D14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EE2-82E4-46A5-900D-27AEAA5B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566D-021B-4BB6-AD11-D5AE2072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EFCB-249A-4111-8CBB-A8E5E13A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DA63-8539-434D-9C26-4D0A67CC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B3A1-6879-4803-B91E-2AA48F1A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7924-34B7-493E-8E8D-A4ADC91269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8960" y="1523880"/>
            <a:ext cx="566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rrecting f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Non-differenti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 Exposu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638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781680" y="5791320"/>
            <a:ext cx="16002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2346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90720" y="3048120"/>
            <a:ext cx="7391160" cy="838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47920" y="4114800"/>
            <a:ext cx="6095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2346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90720" y="3048120"/>
            <a:ext cx="7391160" cy="533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066680" y="3809880"/>
            <a:ext cx="72392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257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5638680"/>
            <a:ext cx="80769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2819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7781760" cy="762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77724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2209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8076960" cy="733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3276720"/>
            <a:ext cx="8305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96080" cy="3809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4952880"/>
            <a:ext cx="76960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66ccff"/>
                </a:solidFill>
                <a:latin typeface="Times New Roman"/>
              </a:rPr>
              <a:t>(reasonable assumption in this stud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04:44:35Z</dcterms:modified>
  <cp:revision>215</cp:revision>
  <dc:subject/>
  <dc:title>Slide 1</dc:title>
</cp:coreProperties>
</file>